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type.wav" ContentType="audio/x-wav"/>
  <Override PartName="/ppt/media/image4.jpeg" ContentType="image/jpeg"/>
  <Override PartName="/ppt/media/image8.gif" ContentType="image/gif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CF3-8DEA-48C9-957F-F893E5B1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87E-5216-4090-BC0C-7A1705E1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032-9B6C-4149-9384-E3F0F5DE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AEC9-C44D-49E7-B467-195B5F04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6BE-35CE-4664-B6EE-D7560E93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3EA-7F3C-473B-8ACE-160E8419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FD5-F1E7-471A-9BEA-CA7434BF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4D3-B1D1-497B-9C49-F668436A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4FA-5D48-4DCC-8C8D-B55F6854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5B0-DE07-465B-92DF-F8CBBED7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227-9AE7-4DA9-8EBD-11B61729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869-ECB9-4C8B-9BFE-ED8A9D08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d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0856-84D9-4AC6-972C-DA13882E2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look at ang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; Stare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; stare happ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; Glar.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; G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;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251460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3333cc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; A Person who tells s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; A story 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;Not a story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; story  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;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; 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99240" y="2066760"/>
            <a:ext cx="1508040" cy="181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49840" y="4321080"/>
            <a:ext cx="1806480" cy="1568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3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; to take some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; take nice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; Take  some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; bor  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3809880"/>
            <a:ext cx="296712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29671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; full of  happy 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Take nic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;  e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; Take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;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rot="19974600">
            <a:off x="5121000" y="1755360"/>
            <a:ext cx="33526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d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t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; To shake you tee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; To 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; Don’t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; chatt. er.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; ch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; 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65760" y="533520"/>
            <a:ext cx="3362400" cy="3962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; A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;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; Not to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; li b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240984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d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4</cp:lastModifiedBy>
  <dcterms:modified xsi:type="dcterms:W3CDTF">2008-10-29T16:01:11Z</dcterms:modified>
  <cp:revision>15</cp:revision>
  <dc:subject/>
  <dc:title>PowerPoint Presentation</dc:title>
</cp:coreProperties>
</file>